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3.xml.rels" ContentType="application/vnd.openxmlformats-package.relationships+xml"/>
  <Override PartName="/ppt/notesSlides/_rels/notesSlide31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3.png" ContentType="image/png"/>
  <Override PartName="/ppt/media/image6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5.jpeg" ContentType="image/jpe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34C5A-CED2-4A58-84FD-27F86E95CA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922D7-8263-464B-957F-B62CAF685C7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19F61-0167-4789-B077-F66620510C3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5EB1-ADFC-4E7E-B9EE-6053F7F11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1E8D-0953-4CF8-8E1A-9D05401EA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451D-DA6A-4E65-8EED-E9052690A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17A7-ED25-4C52-87AC-443F754EC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241C6-4DF1-454F-978D-6E50C4C0B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F4527-EB99-4417-9E44-5A4E94373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60AE7-9B72-4805-ABE4-A1CE45A2C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B269C-123C-4BDD-BC96-4FC8EB4A7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328CB-9C4F-4635-84CD-1C6AA49BB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2BDF6-7BFA-4F38-A8BD-84043EAE4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356E7-4E52-49A2-87FF-B89185B30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45E8-9BD4-4849-9841-7657D899C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CFD00-8BBE-495F-AB1F-46E8B43CD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DA35A-F55A-4940-A596-FD75682E9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09543-EA91-4AED-9BDB-0CA92A720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58187-6E23-4D70-91E8-3573484F8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EFC59-5C30-414F-B260-2AA5D39D7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05BD8-EF16-49FF-B932-F36B92D3C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767B1-155B-49CE-AB7E-0E5B8B5C6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6DD0B-955C-4FC6-983B-F6588FC56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BC53D-6DE3-4481-80DE-C1FFBDC5E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D4908-9981-4517-A887-008F19340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E7E1-54DD-4F40-8B33-907673D13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658A2-F316-448D-B1FC-BD3147671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69481-A93B-4B79-ADC7-35C9536A3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1C949-FAC6-4E78-8293-686750244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3EA88-7290-4095-8908-CE4F2E858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0C558-353A-4A79-B419-EA36020DE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2A913-E964-4015-B203-784107AE3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C27FA-1F5B-4B14-8C39-204C186AA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2462E-5C51-413D-813E-DC2DEEE58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D19E2-54F2-4236-913C-A02BCBEDD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FD1FD-99AF-4CF7-B8A0-02784175A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F708-E836-4681-A3A9-F950FB0F6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D2479-A2D6-4528-B70A-D9738555F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D5464-A40C-44B2-8E34-CD7CB94EF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B288C-425F-4A22-A7C0-78DFE699C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731FA-EADC-496B-9ADC-74B354508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51314-7B06-4D47-9563-D4BD86B9C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F3DEC-F018-4F96-84FC-2D682989A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FBDE7-308E-479C-B9DA-C5BC23A53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EA70C-C09C-4C2D-879E-19E1528F5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D9850-3435-4B4A-934E-E211BC740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10BB-AE89-47CE-89B3-0FD444F81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7959-B466-4331-91A2-3655C5B23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CE91-574E-4AE0-B7C5-85B4D2772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E39F-181B-4ECE-AB53-27F5515C4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8DC3-D6E3-4111-A0A1-A369217A3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E97E3-176A-45D4-A6A1-48D2E5902707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E29FE-EFF8-4726-A011-8D3E179CF081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62429-F85D-4D9A-9EB2-1B816AF444EF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537AF-155D-422B-9730-4CF9D3207477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6f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4" descr=""/>
          <p:cNvPicPr/>
          <p:nvPr/>
        </p:nvPicPr>
        <p:blipFill>
          <a:blip r:embed="rId1"/>
          <a:stretch/>
        </p:blipFill>
        <p:spPr>
          <a:xfrm>
            <a:off x="0" y="2819520"/>
            <a:ext cx="8699400" cy="15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00"/>
                </a:solidFill>
                <a:latin typeface="Arial"/>
                <a:ea typeface="Arial"/>
              </a:rPr>
              <a:t>Остају активни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6840" y="1934640"/>
            <a:ext cx="62485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гени у псеудоаутозомалном региону на врху кратког крака, као и други гени на кратком и другом краку Х хромозом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пошто више гена остаје активно на </a:t>
            </a:r>
            <a:r>
              <a:rPr b="0" i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р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 краку инактивног Х, делеције Хр узрокују много теже фенотипске ефекте него делеције 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4" name="Picture 2" descr="Sex Chromosomes and Abnormalities Sex chromosomes At the"/>
          <p:cNvPicPr/>
          <p:nvPr/>
        </p:nvPicPr>
        <p:blipFill>
          <a:blip r:embed="rId1"/>
          <a:srcRect l="75003" t="23334" r="0" b="0"/>
          <a:stretch/>
        </p:blipFill>
        <p:spPr>
          <a:xfrm>
            <a:off x="6686640" y="1600200"/>
            <a:ext cx="2133360" cy="49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ЛАЈОНИЗАЦИЈА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228600" y="19807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Представља п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ојав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да се </a:t>
            </a:r>
            <a:r>
              <a:rPr b="0" lang="en-US" sz="2200" spc="-1" strike="noStrike">
                <a:solidFill>
                  <a:srgbClr val="c00000"/>
                </a:solidFill>
                <a:latin typeface="Arial"/>
                <a:ea typeface="Arial"/>
              </a:rPr>
              <a:t>инактиви</a:t>
            </a:r>
            <a:r>
              <a:rPr b="0" lang="sr-Latn-CS" sz="2200" spc="-1" strike="noStrike">
                <a:solidFill>
                  <a:srgbClr val="c00000"/>
                </a:solidFill>
                <a:latin typeface="Arial"/>
                <a:ea typeface="Arial"/>
              </a:rPr>
              <a:t>ше нормалан X хромозо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, а X који носи мутацију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оста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активан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, тзв. </a:t>
            </a:r>
            <a:r>
              <a:rPr b="0" lang="sr-Latn-R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избегнута инактивациј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 Х хромозом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с мутацијом</a:t>
            </a:r>
            <a:r>
              <a:rPr b="0" lang="sr-Latn-R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Нп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р.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испољавање хемофилије код</a:t>
            </a:r>
            <a:r>
              <a:rPr b="0" lang="sr-RS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0" lang="sr-Latn-CS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хетерозиготних жен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(X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@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X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XX-здрава жена; X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@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X- преносилац; X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@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@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-болесна жена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МЕХАНИЗАМ ИНАКТИВАЦИЈЕ Х ХРОМОЗОМА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-360" y="1981080"/>
            <a:ext cx="6629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Регулисан је X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нактивационим центро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(XIC)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који се налази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дугом</a:t>
            </a:r>
            <a:r>
              <a:rPr b="0" lang="sr-Latn-R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краку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X хром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озома (Х</a:t>
            </a:r>
            <a:r>
              <a:rPr b="0" lang="sr-Latn-RS" sz="2200" spc="-1" strike="noStrike">
                <a:solidFill>
                  <a:srgbClr val="000000"/>
                </a:solidFill>
                <a:latin typeface="Arial"/>
              </a:rPr>
              <a:t>q13)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200" spc="-1" strike="noStrike">
                <a:solidFill>
                  <a:srgbClr val="c00000"/>
                </a:solidFill>
                <a:latin typeface="Arial"/>
              </a:rPr>
              <a:t>XIST ген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XIST ген се транскрибује на </a:t>
            </a:r>
            <a:r>
              <a:rPr b="1" lang="sr-Latn-CS" sz="2200" spc="-1" strike="noStrike">
                <a:solidFill>
                  <a:srgbClr val="c00000"/>
                </a:solidFill>
                <a:latin typeface="Arial"/>
              </a:rPr>
              <a:t>XIST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sr-Latn-CS" sz="2200" spc="-1" strike="noStrike">
                <a:solidFill>
                  <a:srgbClr val="c00000"/>
                </a:solidFill>
                <a:latin typeface="Arial"/>
              </a:rPr>
              <a:t> РНК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c00000"/>
                </a:solidFill>
                <a:latin typeface="Arial"/>
              </a:rPr>
              <a:t>XIST</a:t>
            </a:r>
            <a:r>
              <a:rPr b="0" lang="sr-RS" sz="22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0" lang="sr-Latn-CS" sz="2200" spc="-1" strike="noStrike">
                <a:solidFill>
                  <a:srgbClr val="c00000"/>
                </a:solidFill>
                <a:latin typeface="Arial"/>
              </a:rPr>
              <a:t>РНК се нагомилава дуж X хромозома и блокира га.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Не преноси се на други X у нуклеусу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стовремено 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кљ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чивање XIST локуса на активном X хром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озом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се обавља метилацијом XIST регулаторне секвенце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sr-RS" sz="2200" spc="-1" strike="noStrike">
                <a:solidFill>
                  <a:srgbClr val="c00000"/>
                </a:solidFill>
                <a:latin typeface="Arial"/>
              </a:rPr>
              <a:t>М</a:t>
            </a:r>
            <a:r>
              <a:rPr b="0" lang="sr-Latn-CS" sz="2200" spc="-1" strike="noStrike">
                <a:solidFill>
                  <a:srgbClr val="c00000"/>
                </a:solidFill>
                <a:latin typeface="Arial"/>
              </a:rPr>
              <a:t>eтилација ДНК блокира eкспрeсију XIST генског локуса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29" name="Object 6"/>
          <p:cNvGraphicFramePr/>
          <p:nvPr/>
        </p:nvGraphicFramePr>
        <p:xfrm>
          <a:off x="6730920" y="2743200"/>
          <a:ext cx="2260800" cy="23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0920" y="2743200"/>
                    <a:ext cx="2260800" cy="23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ПОЛНОСТ КОД ЧОВЕКА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25909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 </a:t>
            </a:r>
            <a:r>
              <a:rPr b="1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Генетички пол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(хромозомска конституција зигота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 </a:t>
            </a:r>
            <a:r>
              <a:rPr b="1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Гонадални пол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(одређен је присуством гонада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  </a:t>
            </a:r>
            <a:r>
              <a:rPr b="1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Фенотипски пол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(спољашња манифестација пола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Код човека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Женски пол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sr-CS" sz="2200" spc="-1" strike="noStrike">
                <a:solidFill>
                  <a:srgbClr val="c00000"/>
                </a:solidFill>
                <a:latin typeface="Arial"/>
              </a:rPr>
              <a:t>хомогаметан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– све јајне ћелије садрже само Х хромозом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Мушки пол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sr-CS" sz="2200" spc="-1" strike="noStrike">
                <a:solidFill>
                  <a:srgbClr val="c00000"/>
                </a:solidFill>
                <a:latin typeface="Arial"/>
              </a:rPr>
              <a:t>хетерогаметан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– два типа сперматозоида: они који садрже Х и они који садрже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хромозом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c00000"/>
                </a:solidFill>
                <a:latin typeface="Arial"/>
                <a:ea typeface="Arial"/>
              </a:rPr>
              <a:t>Детерминација пола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при фертилизацији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c00000"/>
                </a:solidFill>
                <a:latin typeface="Arial"/>
                <a:ea typeface="Arial"/>
              </a:rPr>
              <a:t>Формирање бипотенцијалних гонада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, два сета одвојених канала 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Wolf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-ов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üller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-ов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) и недиференцираних спољних гениталија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c00000"/>
                </a:solidFill>
                <a:latin typeface="Arial"/>
                <a:ea typeface="Arial"/>
              </a:rPr>
              <a:t>Диференцирање бипотенцијалних гонада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: бипотенцијална гонада се диференцира у тестис (код мушкараца, услед дејства продукта </a:t>
            </a:r>
            <a:r>
              <a:rPr b="0" lang="en-US" sz="2200" spc="-1" strike="noStrike">
                <a:solidFill>
                  <a:srgbClr val="c00000"/>
                </a:solidFill>
                <a:latin typeface="Arial"/>
                <a:ea typeface="Arial"/>
              </a:rPr>
              <a:t>SRY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 гена – </a:t>
            </a:r>
            <a:r>
              <a:rPr b="0" lang="sr-Latn-CS" sz="2200" spc="-1" strike="noStrike">
                <a:solidFill>
                  <a:srgbClr val="c00000"/>
                </a:solidFill>
                <a:latin typeface="Arial"/>
                <a:ea typeface="Arial"/>
              </a:rPr>
              <a:t>TDF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) или у оваријум (код жена, у одсуству продукт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RY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 гена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c00000"/>
                </a:solidFill>
                <a:latin typeface="Arial"/>
                <a:ea typeface="Arial"/>
              </a:rPr>
              <a:t>Диференцирање унутрашњих полних одвода и спољашњих гениталија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552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Процес полног развића код човека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61048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ТЕСТИС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üller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  <a:ea typeface="Arial"/>
              </a:rPr>
              <a:t>-ова инхибиторна супстанца-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MIS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ТЕСТОСТЕРОН (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  <a:ea typeface="Arial"/>
              </a:rPr>
              <a:t>Leydig-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  <a:ea typeface="Arial"/>
              </a:rPr>
              <a:t>ове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ћелије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rtoly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јеве ћелије)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инхибира рас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üller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  <a:ea typeface="Arial"/>
              </a:rPr>
              <a:t>-ових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 канала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раст мушких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olf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ових канал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  <a:ea typeface="Arial"/>
              </a:rPr>
              <a:t>(епидидимис, семево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  <a:ea typeface="Arial"/>
              </a:rPr>
              <a:t>семене везикуле)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ОВАРИЈУ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Недостатак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MIS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недостатак тестостерон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Рас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üller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  <a:ea typeface="Arial"/>
              </a:rPr>
              <a:t>-ових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 канала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инхибиран рас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olf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ових канал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  <a:ea typeface="Arial"/>
              </a:rPr>
              <a:t>(јајоводи, материца, део вагине)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развиће женских гениталиј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Line 4"/>
          <p:cNvSpPr/>
          <p:nvPr/>
        </p:nvSpPr>
        <p:spPr>
          <a:xfrm>
            <a:off x="1981080" y="1981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Line 6"/>
          <p:cNvSpPr/>
          <p:nvPr/>
        </p:nvSpPr>
        <p:spPr>
          <a:xfrm flipH="1">
            <a:off x="2819160" y="685800"/>
            <a:ext cx="9903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Line 7"/>
          <p:cNvSpPr/>
          <p:nvPr/>
        </p:nvSpPr>
        <p:spPr>
          <a:xfrm>
            <a:off x="6324480" y="1828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Line 8"/>
          <p:cNvSpPr/>
          <p:nvPr/>
        </p:nvSpPr>
        <p:spPr>
          <a:xfrm>
            <a:off x="5029200" y="685800"/>
            <a:ext cx="9907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Line 9"/>
          <p:cNvSpPr/>
          <p:nvPr/>
        </p:nvSpPr>
        <p:spPr>
          <a:xfrm flipH="1">
            <a:off x="2057040" y="3886200"/>
            <a:ext cx="1523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Line 10"/>
          <p:cNvSpPr/>
          <p:nvPr/>
        </p:nvSpPr>
        <p:spPr>
          <a:xfrm>
            <a:off x="5638680" y="3886200"/>
            <a:ext cx="11430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Line 11"/>
          <p:cNvSpPr/>
          <p:nvPr/>
        </p:nvSpPr>
        <p:spPr>
          <a:xfrm>
            <a:off x="182880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Line 12"/>
          <p:cNvSpPr/>
          <p:nvPr/>
        </p:nvSpPr>
        <p:spPr>
          <a:xfrm>
            <a:off x="6324480" y="4648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-360" y="1295280"/>
            <a:ext cx="6172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У </a:t>
            </a:r>
            <a:r>
              <a:rPr b="0" lang="en-US" sz="2200" spc="-1" strike="noStrike">
                <a:solidFill>
                  <a:srgbClr val="c00000"/>
                </a:solidFill>
                <a:latin typeface="Arial"/>
                <a:ea typeface="Arial"/>
              </a:rPr>
              <a:t>мејози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се </a:t>
            </a:r>
            <a:r>
              <a:rPr b="0" lang="en-US" sz="2200" spc="-1" strike="noStrike">
                <a:solidFill>
                  <a:srgbClr val="c00000"/>
                </a:solidFill>
                <a:latin typeface="Arial"/>
                <a:ea typeface="Arial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0" lang="en-US" sz="2200" spc="-1" strike="noStrike">
                <a:solidFill>
                  <a:srgbClr val="c00000"/>
                </a:solidFill>
                <a:latin typeface="Arial"/>
                <a:ea typeface="Arial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хромозоми по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шају као хомологи аутозоми, у профази </a:t>
            </a:r>
            <a:r>
              <a:rPr b="0" lang="sr-Latn-CS" sz="2200" spc="-1" strike="noStrike">
                <a:solidFill>
                  <a:srgbClr val="c00000"/>
                </a:solidFill>
                <a:latin typeface="Arial"/>
                <a:ea typeface="Arial"/>
              </a:rPr>
              <a:t>синапсирај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, а у анафази се</a:t>
            </a:r>
            <a:r>
              <a:rPr b="0" lang="sr-Latn-CS" sz="2200" spc="-1" strike="noStrike">
                <a:solidFill>
                  <a:srgbClr val="533ea9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c00000"/>
                </a:solidFill>
                <a:latin typeface="Arial"/>
                <a:ea typeface="Arial"/>
              </a:rPr>
              <a:t>раздвајај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На терминалним деловима X и Y хромозома постоје мали региони који синапсирају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 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међу њима се дешава кросинг-овер,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а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називају се </a:t>
            </a:r>
            <a:r>
              <a:rPr b="1" lang="sr-Latn-CS" sz="2200" spc="-1" strike="noStrike">
                <a:solidFill>
                  <a:srgbClr val="c00000"/>
                </a:solidFill>
                <a:latin typeface="Arial"/>
                <a:ea typeface="Arial"/>
              </a:rPr>
              <a:t>псеудоаутозомални региони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  <a:ea typeface="Arial"/>
              </a:rPr>
              <a:t> (PAR)</a:t>
            </a:r>
            <a:r>
              <a:rPr b="1" lang="sr-Latn-CS" sz="2200" spc="-1" strike="noStrike">
                <a:solidFill>
                  <a:srgbClr val="c00000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c00000"/>
                </a:solidFill>
                <a:latin typeface="Arial"/>
                <a:ea typeface="Arial"/>
              </a:rPr>
              <a:t>Псеудоаутозомални региони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су добили назив по генима лоцираним у овим регионима, а наслеђивање које детерминишу је </a:t>
            </a:r>
            <a:r>
              <a:rPr b="0" lang="sr-Latn-CS" sz="2200" spc="-1" strike="noStrike">
                <a:solidFill>
                  <a:srgbClr val="c00000"/>
                </a:solidFill>
                <a:latin typeface="Arial"/>
                <a:ea typeface="Arial"/>
              </a:rPr>
              <a:t>слично аутозомалним генима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6" name="Picture 5" descr="y_140"/>
          <p:cNvPicPr/>
          <p:nvPr/>
        </p:nvPicPr>
        <p:blipFill>
          <a:blip r:embed="rId1"/>
          <a:stretch/>
        </p:blipFill>
        <p:spPr>
          <a:xfrm>
            <a:off x="0" y="0"/>
            <a:ext cx="1486080" cy="129384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6"/>
          <p:cNvSpPr/>
          <p:nvPr/>
        </p:nvSpPr>
        <p:spPr>
          <a:xfrm>
            <a:off x="1828800" y="22860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ПОЛНИ ХРОМОЗОМИ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 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8" name="Picture 4" descr="Ychromosome2"/>
          <p:cNvPicPr/>
          <p:nvPr/>
        </p:nvPicPr>
        <p:blipFill>
          <a:blip r:embed="rId2"/>
          <a:stretch/>
        </p:blipFill>
        <p:spPr>
          <a:xfrm>
            <a:off x="7086600" y="4038480"/>
            <a:ext cx="1662120" cy="2683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9" name="Object 6"/>
          <p:cNvGraphicFramePr/>
          <p:nvPr/>
        </p:nvGraphicFramePr>
        <p:xfrm>
          <a:off x="7238880" y="990720"/>
          <a:ext cx="1243080" cy="2957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38880" y="990720"/>
                    <a:ext cx="1243080" cy="29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Text Box 8"/>
          <p:cNvSpPr/>
          <p:nvPr/>
        </p:nvSpPr>
        <p:spPr>
          <a:xfrm>
            <a:off x="8001000" y="1752480"/>
            <a:ext cx="533520" cy="246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DS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Text Box 9"/>
          <p:cNvSpPr/>
          <p:nvPr/>
        </p:nvSpPr>
        <p:spPr>
          <a:xfrm>
            <a:off x="8007480" y="2286000"/>
            <a:ext cx="377280" cy="246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XIC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Text Box 10"/>
          <p:cNvSpPr/>
          <p:nvPr/>
        </p:nvSpPr>
        <p:spPr>
          <a:xfrm>
            <a:off x="7925040" y="1143000"/>
            <a:ext cx="488520" cy="2462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AR1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Text Box 12"/>
          <p:cNvSpPr/>
          <p:nvPr/>
        </p:nvSpPr>
        <p:spPr>
          <a:xfrm>
            <a:off x="7925040" y="3657600"/>
            <a:ext cx="488520" cy="2462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AR2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Text Box 13"/>
          <p:cNvSpPr/>
          <p:nvPr/>
        </p:nvSpPr>
        <p:spPr>
          <a:xfrm>
            <a:off x="7232400" y="6324480"/>
            <a:ext cx="14353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Y </a:t>
            </a:r>
            <a:r>
              <a:rPr b="1" lang="sr-CS" sz="1600" spc="-1" strike="noStrike">
                <a:solidFill>
                  <a:srgbClr val="000000"/>
                </a:solidFill>
                <a:latin typeface="Tahoma"/>
              </a:rPr>
              <a:t>хромозом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Text Box 14"/>
          <p:cNvSpPr/>
          <p:nvPr/>
        </p:nvSpPr>
        <p:spPr>
          <a:xfrm>
            <a:off x="7214040" y="817560"/>
            <a:ext cx="14439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ahoma"/>
              </a:rPr>
              <a:t>Х хромозом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4" descr="Ychromosome2"/>
          <p:cNvPicPr/>
          <p:nvPr/>
        </p:nvPicPr>
        <p:blipFill>
          <a:blip r:embed="rId1"/>
          <a:stretch/>
        </p:blipFill>
        <p:spPr>
          <a:xfrm>
            <a:off x="63360" y="1689120"/>
            <a:ext cx="3111480" cy="50166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 txBox="1"/>
          <p:nvPr/>
        </p:nvSpPr>
        <p:spPr>
          <a:xfrm>
            <a:off x="3123720" y="1828800"/>
            <a:ext cx="5791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c00000"/>
                </a:solidFill>
                <a:latin typeface="Arial"/>
              </a:rPr>
              <a:t>95% гена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на Y хромозому се налази у </a:t>
            </a:r>
            <a:r>
              <a:rPr b="0" lang="sr-Latn-CS" sz="2200" spc="-1" strike="noStrike">
                <a:solidFill>
                  <a:srgbClr val="c00000"/>
                </a:solidFill>
                <a:latin typeface="Arial"/>
              </a:rPr>
              <a:t>псеудоаутозомалним регионима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Мушкарци имају </a:t>
            </a:r>
            <a:r>
              <a:rPr b="0" lang="sr-Latn-CS" sz="2200" spc="-1" strike="noStrike">
                <a:solidFill>
                  <a:srgbClr val="c00000"/>
                </a:solidFill>
                <a:latin typeface="Arial"/>
              </a:rPr>
              <a:t>две копије </a:t>
            </a:r>
            <a:r>
              <a:rPr b="0" lang="en-US" sz="2200" spc="-1" strike="noStrike">
                <a:solidFill>
                  <a:srgbClr val="c00000"/>
                </a:solidFill>
                <a:latin typeface="Arial"/>
              </a:rPr>
              <a:t>гена псеудоаутозомалних </a:t>
            </a:r>
            <a:r>
              <a:rPr b="0" lang="sr-Latn-CS" sz="2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c00000"/>
                </a:solidFill>
                <a:latin typeface="Arial"/>
              </a:rPr>
              <a:t>региона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. Једну копију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на Y хром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озом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друг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X хром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озому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На Y хром се налази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78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гена који детерминишу продукцију протеина неопходних за све телесне ћелије, а други детерминишу протеине који остварују функције само у тестисима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533520" y="380880"/>
            <a:ext cx="69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Y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ХРОМОЗОМ ОДРЕЂУЈЕ ПОЛ</a:t>
            </a:r>
            <a:r>
              <a:rPr b="1" lang="sr-CS" sz="32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4" descr="Ychromosome2"/>
          <p:cNvPicPr/>
          <p:nvPr/>
        </p:nvPicPr>
        <p:blipFill>
          <a:blip r:embed="rId1"/>
          <a:stretch/>
        </p:blipFill>
        <p:spPr>
          <a:xfrm>
            <a:off x="291960" y="1270080"/>
            <a:ext cx="2781360" cy="485136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 txBox="1"/>
          <p:nvPr/>
        </p:nvSpPr>
        <p:spPr>
          <a:xfrm>
            <a:off x="3428640" y="2666880"/>
            <a:ext cx="5715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Доказ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Особе са реверзијом пола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XX-мушкарци који имају тестисе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XY- жене које немају тестисе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Rectangle 3"/>
          <p:cNvSpPr/>
          <p:nvPr/>
        </p:nvSpPr>
        <p:spPr>
          <a:xfrm>
            <a:off x="2895480" y="1371600"/>
            <a:ext cx="6096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краку Y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хромозома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у региону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11.3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налази се </a:t>
            </a:r>
            <a:r>
              <a:rPr b="1" lang="sr-Latn-CS" sz="2200" spc="-1" strike="noStrike">
                <a:solidFill>
                  <a:srgbClr val="c00000"/>
                </a:solidFill>
                <a:latin typeface="Arial"/>
              </a:rPr>
              <a:t>SRY ген</a:t>
            </a:r>
            <a:r>
              <a:rPr b="0" lang="sr-Latn-CS" sz="2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еx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detеrmi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g region Y)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 који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учествује у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 д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иференцијацији тестиса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917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ПОЛНОСТ – ДИФЕРЕНЦИЈАЦИЈА ЈЕДИНКИ НА ЈЕДИНКЕ</a:t>
            </a:r>
            <a:r>
              <a:rPr b="1" lang="sr-Latn-CS" sz="2900" spc="-1" strike="noStrike">
                <a:solidFill>
                  <a:srgbClr val="000000"/>
                </a:solidFill>
                <a:latin typeface="Arial"/>
              </a:rPr>
              <a:t> МУШКОГ И ЖЕНСКОГ ПОЛА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onstantia"/>
            </a:endParaRPr>
          </a:p>
          <a:p>
            <a:pPr marL="55440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onstantia"/>
            </a:endParaRPr>
          </a:p>
          <a:p>
            <a:pPr marL="554400" indent="-5544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иференцијација пола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54400" indent="-5544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Хермафродитизам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54400" indent="-5544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Једнодомост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54400" indent="-5544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Партеногенеза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54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Детерминација пол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54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5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c00000"/>
                </a:solidFill>
                <a:latin typeface="Arial"/>
              </a:rPr>
              <a:t>1. Прогамни тип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пол се може предвидети пре оплођења на основу крупноће јаја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нпр. црви-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Rotatori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5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c00000"/>
                </a:solidFill>
                <a:latin typeface="Arial"/>
              </a:rPr>
              <a:t>2. Епигамни тип</a:t>
            </a:r>
            <a:r>
              <a:rPr b="1" lang="sr-C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детерминација пола се обавља после оплођења и зависи од услова околине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нпр. црвуљак-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Bonellia viridis, Crepidula, Equisetum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5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c00000"/>
                </a:solidFill>
                <a:latin typeface="Arial"/>
              </a:rPr>
              <a:t>3. Сингамни тип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- одређивање пола обавља се у тренутку оплођења. Јавља се код човека, домаћих жовотиња и представља најраширенији тип детерминације пола.</a:t>
            </a:r>
            <a:r>
              <a:rPr b="0" lang="sr-CS" sz="22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Protentor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♂-XO,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바탕"/>
              </a:rPr>
              <a:t>♀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- XX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Drosophil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♂-XY,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바탕"/>
              </a:rPr>
              <a:t>♀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- XX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Abraxsas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♂-XX,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바탕"/>
              </a:rPr>
              <a:t>♀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- XY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54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54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5440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5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Constantia"/>
            </a:endParaRPr>
          </a:p>
          <a:p>
            <a:pPr marL="55440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4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RY</a:t>
            </a:r>
            <a:r>
              <a:rPr b="1" lang="sr-R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ОКУС 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EX REGION ON 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32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300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Arial"/>
                <a:ea typeface="Arial"/>
              </a:rPr>
              <a:t>КЉУЧАН ЗА ДИФЕРЕНЦИЈАЦИЈУ ТЕСТИСА </a:t>
            </a:r>
            <a:br>
              <a:rPr sz="2200"/>
            </a:br>
            <a:r>
              <a:rPr b="0" lang="en-US" sz="22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 35.000 bp на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р краку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 хромозома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 кодира полипептид од 223 а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мин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иселин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транскрипциони фактор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  <a:ea typeface="Arial"/>
              </a:rPr>
              <a:t>ТDF</a:t>
            </a:r>
            <a:r>
              <a:rPr b="1" lang="sr-CS" sz="22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  <a:ea typeface="Arial"/>
              </a:rPr>
              <a:t>(фактор диференцијације тестиса)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његово присуство или одсуство одређује да ли ће се из бипотенцијалних гонада формирати тестис или оваријум.</a:t>
            </a:r>
            <a:br>
              <a:rPr sz="2200"/>
            </a:b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5" name="Picture 5" descr="Sex Development | BioNinja"/>
          <p:cNvPicPr/>
          <p:nvPr/>
        </p:nvPicPr>
        <p:blipFill>
          <a:blip r:embed="rId1"/>
          <a:stretch/>
        </p:blipFill>
        <p:spPr>
          <a:xfrm>
            <a:off x="2333520" y="4471920"/>
            <a:ext cx="447696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Ген за 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сперматогенез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Ген за 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H-Yc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антиген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Ген за 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раст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Ген за 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раст зуба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Ген за 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маскулинизацију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762120" y="533520"/>
            <a:ext cx="746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ГЕНИ НА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ХРОМОЗОМУ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304920" y="1477440"/>
            <a:ext cx="8686800" cy="53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Гени за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-антигене кодирају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фамилиј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протеина специфичних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за пол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lang="sr-Latn-CS" sz="2200" spc="-1" strike="noStrike">
                <a:solidFill>
                  <a:srgbClr val="c00000"/>
                </a:solidFill>
                <a:latin typeface="Arial"/>
                <a:ea typeface="Arial"/>
              </a:rPr>
              <a:t>H-Yt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откривен трансплантацијом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lang="sr-Latn-CS" sz="2200" spc="-1" strike="noStrike">
                <a:solidFill>
                  <a:srgbClr val="c00000"/>
                </a:solidFill>
                <a:latin typeface="Arial"/>
                <a:ea typeface="Arial"/>
              </a:rPr>
              <a:t>H-Yc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отривен помоћу цитотоксичних Т лимфоцита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смештен је на q краку Y хром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lang="sr-Latn-CS" sz="2200" spc="-1" strike="noStrike">
                <a:solidFill>
                  <a:srgbClr val="c00000"/>
                </a:solidFill>
                <a:latin typeface="Arial"/>
                <a:ea typeface="Arial"/>
              </a:rPr>
              <a:t>H-Ys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одређује се серолошки и означава сe каo  </a:t>
            </a:r>
            <a:r>
              <a:rPr b="1" lang="sr-Latn-CS" sz="2200" spc="-1" strike="noStrike">
                <a:solidFill>
                  <a:srgbClr val="c00000"/>
                </a:solidFill>
                <a:latin typeface="Arial"/>
                <a:ea typeface="Arial"/>
              </a:rPr>
              <a:t>Sxs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(за пол специфичан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антиген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)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 налази се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на хромозому бр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ој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6 код оба пола, али има 1000 пута већу експресију код мушкaрaцa,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јер му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је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 активност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 под контролом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SRY ген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*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контрол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ше раст плода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0" y="380880"/>
            <a:ext cx="883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-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АНТИГЕН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ИМА УЛОГУ У ДИФЕРЕНЦИЈАЦИЈИ ТЕСТИС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304920" y="2742840"/>
            <a:ext cx="7772400" cy="339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SS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кодира једарни рецептор за хормоне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Двострука доза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SS</a:t>
            </a:r>
            <a:r>
              <a:rPr b="1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 увек узрокује диференцијацију оваријума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- Д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вострука доза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на активном X супримирa дејство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RY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 гена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c00000"/>
                </a:solidFill>
                <a:latin typeface="Arial"/>
                <a:ea typeface="Arial"/>
              </a:rPr>
              <a:t>   </a:t>
            </a:r>
            <a:r>
              <a:rPr b="0" lang="en-US" sz="2200" spc="-1" strike="noStrike">
                <a:solidFill>
                  <a:srgbClr val="c00000"/>
                </a:solidFill>
                <a:latin typeface="Arial"/>
                <a:ea typeface="Arial"/>
              </a:rPr>
              <a:t>DSS+SR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2DSS  </a:t>
            </a:r>
            <a:r>
              <a:rPr b="1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или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2DSS+SRY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200" spc="-1" strike="noStrike">
                <a:solidFill>
                  <a:srgbClr val="c00000"/>
                </a:solidFill>
                <a:latin typeface="Arial"/>
                <a:ea typeface="Arial"/>
              </a:rPr>
              <a:t>ТЕСТИС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ОВАРИЈУМ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Text Box 4"/>
          <p:cNvSpPr/>
          <p:nvPr/>
        </p:nvSpPr>
        <p:spPr>
          <a:xfrm>
            <a:off x="304920" y="3808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Х ХРОМОЗОМ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72" name="Object 4"/>
          <p:cNvGraphicFramePr/>
          <p:nvPr/>
        </p:nvGraphicFramePr>
        <p:xfrm>
          <a:off x="7900920" y="1828800"/>
          <a:ext cx="1243080" cy="29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00920" y="1828800"/>
                    <a:ext cx="1243080" cy="29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Text Box 5"/>
          <p:cNvSpPr/>
          <p:nvPr/>
        </p:nvSpPr>
        <p:spPr>
          <a:xfrm>
            <a:off x="8081280" y="2895480"/>
            <a:ext cx="414000" cy="246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DS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Text Box 6"/>
          <p:cNvSpPr/>
          <p:nvPr/>
        </p:nvSpPr>
        <p:spPr>
          <a:xfrm>
            <a:off x="8083800" y="3429000"/>
            <a:ext cx="377280" cy="246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XIC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Text Box 7"/>
          <p:cNvSpPr/>
          <p:nvPr/>
        </p:nvSpPr>
        <p:spPr>
          <a:xfrm>
            <a:off x="7451640" y="717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Text Box 9"/>
          <p:cNvSpPr/>
          <p:nvPr/>
        </p:nvSpPr>
        <p:spPr>
          <a:xfrm>
            <a:off x="7692840" y="5105520"/>
            <a:ext cx="15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sr-CS" sz="1800" spc="-1" strike="noStrike">
                <a:solidFill>
                  <a:srgbClr val="000000"/>
                </a:solidFill>
                <a:latin typeface="Tahoma"/>
              </a:rPr>
              <a:t> хромозо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Rectangle 8"/>
          <p:cNvSpPr/>
          <p:nvPr/>
        </p:nvSpPr>
        <p:spPr>
          <a:xfrm>
            <a:off x="457200" y="1600200"/>
            <a:ext cx="7086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Најзначајнији региони који имају улогу у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диференцијацији оваријума су </a:t>
            </a:r>
            <a:r>
              <a:rPr b="1" lang="sr-Latn-CS" sz="2200" spc="-1" strike="noStrike">
                <a:solidFill>
                  <a:srgbClr val="c00000"/>
                </a:solidFill>
                <a:latin typeface="Arial"/>
                <a:ea typeface="Arial"/>
              </a:rPr>
              <a:t>Xq13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  <a:ea typeface="Arial"/>
              </a:rPr>
              <a:t>- XIC</a:t>
            </a:r>
            <a:r>
              <a:rPr b="1" lang="sr-Latn-CS" sz="22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и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c00000"/>
                </a:solidFill>
                <a:latin typeface="Arial"/>
                <a:ea typeface="Arial"/>
              </a:rPr>
              <a:t>X</a:t>
            </a:r>
            <a:r>
              <a:rPr b="1" lang="sr-CS" sz="2200" spc="-1" strike="noStrike">
                <a:solidFill>
                  <a:srgbClr val="c00000"/>
                </a:solidFill>
                <a:latin typeface="Arial"/>
                <a:ea typeface="Arial"/>
              </a:rPr>
              <a:t>р</a:t>
            </a:r>
            <a:r>
              <a:rPr b="1" lang="sr-Latn-CS" sz="2200" spc="-1" strike="noStrike">
                <a:solidFill>
                  <a:srgbClr val="c00000"/>
                </a:solidFill>
                <a:latin typeface="Arial"/>
                <a:ea typeface="Arial"/>
              </a:rPr>
              <a:t>21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  <a:ea typeface="Arial"/>
              </a:rPr>
              <a:t>- DS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(одговоран за диференцијацију пола)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228600" y="1905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c00000"/>
                </a:solidFill>
                <a:latin typeface="Arial"/>
                <a:ea typeface="Arial"/>
              </a:rPr>
              <a:t>WT1 ген</a:t>
            </a:r>
            <a:r>
              <a:rPr b="0" lang="sr-CS" sz="22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хромозом 11p13 (одговоран је за настанак Wilms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-овог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тумора, а за време ембриогенезе експресију постиже у гениталном набору и на стадијуму фетуса у гонадама оба пола)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 – има кључну улогу </a:t>
            </a:r>
            <a:r>
              <a:rPr b="0" lang="sr-CS" sz="2200" spc="-1" strike="noStrike">
                <a:solidFill>
                  <a:srgbClr val="c00000"/>
                </a:solidFill>
                <a:latin typeface="Arial"/>
                <a:ea typeface="Arial"/>
              </a:rPr>
              <a:t>у диференцијацији оваријума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c00000"/>
                </a:solidFill>
                <a:latin typeface="Arial"/>
                <a:ea typeface="Arial"/>
              </a:rPr>
              <a:t>SF1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на хром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озо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бр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ој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9q33 (регулише </a:t>
            </a:r>
            <a:r>
              <a:rPr b="0" lang="sr-Latn-CS" sz="2200" spc="-1" strike="noStrike">
                <a:solidFill>
                  <a:srgbClr val="c00000"/>
                </a:solidFill>
                <a:latin typeface="Arial"/>
                <a:ea typeface="Arial"/>
              </a:rPr>
              <a:t>продукцију полних хормо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c00000"/>
                </a:solidFill>
                <a:latin typeface="Arial"/>
                <a:ea typeface="Arial"/>
              </a:rPr>
              <a:t>SOX9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лоциран је на 17q24-25 (учествује у </a:t>
            </a:r>
            <a:r>
              <a:rPr b="0" lang="sr-Latn-CS" sz="2200" spc="-1" strike="noStrike">
                <a:solidFill>
                  <a:srgbClr val="c00000"/>
                </a:solidFill>
                <a:latin typeface="Arial"/>
                <a:ea typeface="Arial"/>
              </a:rPr>
              <a:t>диференцијацији тестис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,  откривено је 14 SOX гена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0" y="61722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Text Box 6"/>
          <p:cNvSpPr/>
          <p:nvPr/>
        </p:nvSpPr>
        <p:spPr>
          <a:xfrm>
            <a:off x="609480" y="53352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АУТОЗОМНИ ХРОМОЗОМИ ТАКОЂЕ ИМАЈУ УЛОГУ У ДИФЕРЕНЦИЈАЦИЈИ ПОЛА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76320" y="1295280"/>
            <a:ext cx="81532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c00000"/>
                </a:solidFill>
                <a:latin typeface="Arial"/>
              </a:rPr>
              <a:t>    </a:t>
            </a:r>
            <a:r>
              <a:rPr b="1" lang="sr-RS" sz="2200" spc="-1" strike="noStrike" u="sng">
                <a:solidFill>
                  <a:srgbClr val="c00000"/>
                </a:solidFill>
                <a:uFillTx/>
                <a:latin typeface="Arial"/>
              </a:rPr>
              <a:t> </a:t>
            </a:r>
            <a:r>
              <a:rPr b="1" lang="sr-Latn-CS" sz="2200" spc="-1" strike="noStrike" u="sng">
                <a:solidFill>
                  <a:srgbClr val="c00000"/>
                </a:solidFill>
                <a:uFillTx/>
                <a:latin typeface="Arial"/>
              </a:rPr>
              <a:t>XX- фенотип мушки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На кратком краку </a:t>
            </a:r>
            <a:r>
              <a:rPr b="0" lang="sr-Latn-CS" sz="2200" spc="-1" strike="noStrike">
                <a:solidFill>
                  <a:srgbClr val="c00000"/>
                </a:solidFill>
                <a:latin typeface="Arial"/>
                <a:ea typeface="Arial"/>
              </a:rPr>
              <a:t>X </a:t>
            </a:r>
            <a:r>
              <a:rPr b="0" lang="sr-RS" sz="2200" spc="-1" strike="noStrike">
                <a:solidFill>
                  <a:srgbClr val="c00000"/>
                </a:solidFill>
                <a:latin typeface="Arial"/>
                <a:ea typeface="Arial"/>
              </a:rPr>
              <a:t>хромозома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који је наслеђен од оца присутна је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секвенца Y хром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озом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која садржи </a:t>
            </a:r>
            <a:r>
              <a:rPr b="0" lang="sr-Latn-CS" sz="2200" spc="-1" strike="noStrike">
                <a:solidFill>
                  <a:srgbClr val="c00000"/>
                </a:solidFill>
                <a:latin typeface="Arial"/>
                <a:ea typeface="Arial"/>
              </a:rPr>
              <a:t>SRY ген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(преко 80%)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што је последица неправилног </a:t>
            </a:r>
            <a:r>
              <a:rPr b="0" i="1" lang="sr-Latn-RS" sz="2200" spc="-1" strike="noStrike">
                <a:solidFill>
                  <a:srgbClr val="000000"/>
                </a:solidFill>
                <a:latin typeface="Arial"/>
                <a:ea typeface="Arial"/>
              </a:rPr>
              <a:t>crossing over-</a:t>
            </a:r>
            <a:r>
              <a:rPr b="0" lang="sr-Latn-RS" sz="2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i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између X и Y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Код 15-20% није утврђена секвенца SRY, а сматра се да је последица мутације на aутозомном хромозому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број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22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-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честалост 1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20 000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♂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новорођенчади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-н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иже су висине, имају тестисе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-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зрок може да буде транслокација између X и Y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Text Box 5"/>
          <p:cNvSpPr/>
          <p:nvPr/>
        </p:nvSpPr>
        <p:spPr>
          <a:xfrm>
            <a:off x="2057400" y="30492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РЕВЕРЗИЈА ПОЛ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4" name="Picture 5" descr="Wk 8 Sexual Differentiation Flashcards | Quizlet"/>
          <p:cNvPicPr/>
          <p:nvPr/>
        </p:nvPicPr>
        <p:blipFill>
          <a:blip r:embed="rId1"/>
          <a:srcRect l="75797" t="0" r="0" b="0"/>
          <a:stretch/>
        </p:blipFill>
        <p:spPr>
          <a:xfrm>
            <a:off x="8077320" y="1143000"/>
            <a:ext cx="876240" cy="197964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7" descr="Genetic Syndromes Part 1 and 2 Dr Tabrez"/>
          <p:cNvPicPr/>
          <p:nvPr/>
        </p:nvPicPr>
        <p:blipFill>
          <a:blip r:embed="rId2"/>
          <a:srcRect l="11764" t="47718" r="17648" b="0"/>
          <a:stretch/>
        </p:blipFill>
        <p:spPr>
          <a:xfrm>
            <a:off x="6095880" y="4152960"/>
            <a:ext cx="27432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4" descr="x-y"/>
          <p:cNvPicPr/>
          <p:nvPr/>
        </p:nvPicPr>
        <p:blipFill>
          <a:blip r:embed="rId1"/>
          <a:stretch/>
        </p:blipFill>
        <p:spPr>
          <a:xfrm>
            <a:off x="228600" y="990720"/>
            <a:ext cx="3581280" cy="5526000"/>
          </a:xfrm>
          <a:prstGeom prst="rect">
            <a:avLst/>
          </a:prstGeom>
          <a:ln w="9360">
            <a:solidFill>
              <a:srgbClr val="00ff00"/>
            </a:solidFill>
            <a:miter/>
          </a:ln>
        </p:spPr>
      </p:pic>
      <p:sp>
        <p:nvSpPr>
          <p:cNvPr id="287" name=""/>
          <p:cNvSpPr txBox="1"/>
          <p:nvPr/>
        </p:nvSpPr>
        <p:spPr>
          <a:xfrm>
            <a:off x="3657600" y="1371240"/>
            <a:ext cx="5486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e2d7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ормално се </a:t>
            </a:r>
            <a:r>
              <a:rPr b="0" i="1" lang="sr-Latn-RS" sz="2400" spc="-1" strike="noStrike">
                <a:solidFill>
                  <a:srgbClr val="000000"/>
                </a:solidFill>
                <a:latin typeface="Arial"/>
                <a:ea typeface="Arial"/>
              </a:rPr>
              <a:t>crossing over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шава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из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м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у псеудоаутозомални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региона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X и Y хром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озому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c00000"/>
                </a:solidFill>
                <a:latin typeface="Arial"/>
              </a:rPr>
              <a:t>Неправилним </a:t>
            </a:r>
            <a:r>
              <a:rPr b="0" i="1" lang="sr-Latn-RS" sz="2400" spc="-1" strike="noStrike">
                <a:solidFill>
                  <a:srgbClr val="c00000"/>
                </a:solidFill>
                <a:latin typeface="Arial"/>
                <a:ea typeface="Arial"/>
              </a:rPr>
              <a:t>crossing over-</a:t>
            </a:r>
            <a:r>
              <a:rPr b="0" lang="sr-RS" sz="2400" spc="-1" strike="noStrike">
                <a:solidFill>
                  <a:srgbClr val="c00000"/>
                </a:solidFill>
                <a:latin typeface="Arial"/>
                <a:ea typeface="Arial"/>
              </a:rPr>
              <a:t>ом</a:t>
            </a:r>
            <a:r>
              <a:rPr b="0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c00000"/>
                </a:solidFill>
                <a:latin typeface="Arial"/>
              </a:rPr>
              <a:t>SRY ген пре</a:t>
            </a:r>
            <a:r>
              <a:rPr b="0" lang="sr-CS" sz="2400" spc="-1" strike="noStrike">
                <a:solidFill>
                  <a:srgbClr val="c00000"/>
                </a:solidFill>
                <a:latin typeface="Arial"/>
              </a:rPr>
              <a:t>ђ</a:t>
            </a:r>
            <a:r>
              <a:rPr b="0" lang="sr-Latn-CS" sz="2400" spc="-1" strike="noStrike">
                <a:solidFill>
                  <a:srgbClr val="c00000"/>
                </a:solidFill>
                <a:latin typeface="Arial"/>
              </a:rPr>
              <a:t>е на X хромозом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Може настати као последица мозаицизма (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45,Х0/46Х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Y;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у једном случају је доказано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Код осталих је детектована секвенца Y хромозома на аутозому, а никада на X. </a:t>
            </a:r>
            <a:r>
              <a:rPr b="0" lang="sr-Latn-CS" sz="2200" spc="-1" strike="noStrike">
                <a:solidFill>
                  <a:srgbClr val="c00000"/>
                </a:solidFill>
                <a:latin typeface="Arial"/>
                <a:ea typeface="Arial"/>
              </a:rPr>
              <a:t>Последица је транслокације између Y и кратких секвенци аутозома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Ако је транслокацијом обухваћен само SRY ген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мушкарац је инфертилан</a:t>
            </a:r>
            <a:r>
              <a:rPr b="0" lang="sr-Latn-RS" sz="2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нема сперматогенезе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Ако је је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транслокацијом обухваћен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а дужа секвенца (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SRY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 и ген за сперматогензу), мушкарац је фенотипски нормалан и фертилан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Мали број особа до данас има ову реверзију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" name="Text Box 5"/>
          <p:cNvSpPr/>
          <p:nvPr/>
        </p:nvSpPr>
        <p:spPr>
          <a:xfrm>
            <a:off x="2514600" y="60199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Text Box 6"/>
          <p:cNvSpPr/>
          <p:nvPr/>
        </p:nvSpPr>
        <p:spPr>
          <a:xfrm>
            <a:off x="533520" y="53352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45,ХО – мушкарци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4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Y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жене </a:t>
            </a:r>
            <a:br>
              <a:rPr sz="32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5238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Узроци настанка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  <a:ea typeface="Arial"/>
              </a:rPr>
              <a:t>SRY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делеција или тачкаста мутација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  <a:ea typeface="Arial"/>
              </a:rPr>
              <a:t>2</a:t>
            </a:r>
            <a:r>
              <a:rPr b="1" lang="sr-RS" sz="22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  <a:ea typeface="Arial"/>
              </a:rPr>
              <a:t>x DSS</a:t>
            </a:r>
            <a:r>
              <a:rPr b="1" lang="sr-RS" sz="22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дупликација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н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  <a:ea typeface="Arial"/>
              </a:rPr>
              <a:t>SOX9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 -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делеција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i="1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Гонад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: оваријуми         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i="1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Полни одвод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: женски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i="1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Фенотип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: женски,  аменореја, стерилне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, слабо развијене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секундарне полне карактеристике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c00000"/>
                </a:solidFill>
                <a:latin typeface="Arial"/>
                <a:ea typeface="Arial"/>
              </a:rPr>
              <a:t>Ч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  <a:ea typeface="Arial"/>
              </a:rPr>
              <a:t>ИСТА ГОНАДНА ДИСГЕНЕЗА</a:t>
            </a:r>
            <a:r>
              <a:rPr b="1" lang="sr-CS" sz="2200" spc="-1" strike="noStrike">
                <a:solidFill>
                  <a:srgbClr val="c00000"/>
                </a:solidFill>
                <a:latin typeface="Arial"/>
                <a:ea typeface="Arial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нема телесне одл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ке Тарнера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- убрзана је атрезија фоликула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3" name="Picture 5" descr="Wk 8 Sexual Differentiation Flashcards | Quizlet"/>
          <p:cNvPicPr/>
          <p:nvPr/>
        </p:nvPicPr>
        <p:blipFill>
          <a:blip r:embed="rId1"/>
          <a:srcRect l="44214" t="0" r="24211" b="0"/>
          <a:stretch/>
        </p:blipFill>
        <p:spPr>
          <a:xfrm>
            <a:off x="7213680" y="1066680"/>
            <a:ext cx="116028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457200" y="25142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рави хермафродитизам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сеудохермафродитизам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914400" y="533520"/>
            <a:ext cx="7086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ХЕРМАФРОДИТИЗА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ДВОПОЛНОСТ КОД ЉУДИ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100" spc="-1" strike="noStrike">
                <a:solidFill>
                  <a:srgbClr val="080808"/>
                </a:solidFill>
                <a:latin typeface="Arial"/>
                <a:ea typeface="Arial"/>
              </a:rPr>
              <a:t>БАРОВО ТЕЛО </a:t>
            </a:r>
            <a:br>
              <a:rPr sz="4100"/>
            </a:br>
            <a:r>
              <a:rPr b="1" lang="sr-Latn-CS" sz="4100" spc="-1" strike="noStrike">
                <a:solidFill>
                  <a:srgbClr val="080808"/>
                </a:solidFill>
                <a:latin typeface="Arial"/>
                <a:ea typeface="Arial"/>
              </a:rPr>
              <a:t>– ПОЛНИ ХРОМАТИН</a:t>
            </a:r>
            <a:endParaRPr b="0" lang="en-US" sz="4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28600" y="19051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Иак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женке сисара имају два X хром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озом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, а мужјаци само један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не постоји разлика у експресији гена везаних за X хромозом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c00000"/>
                </a:solidFill>
                <a:latin typeface="Arial"/>
                <a:ea typeface="Arial"/>
              </a:rPr>
              <a:t>доз</a:t>
            </a:r>
            <a:r>
              <a:rPr b="0" lang="en-US" sz="2200" spc="-1" strike="noStrike">
                <a:solidFill>
                  <a:srgbClr val="c00000"/>
                </a:solidFill>
                <a:latin typeface="Arial"/>
                <a:ea typeface="Arial"/>
              </a:rPr>
              <a:t>на</a:t>
            </a:r>
            <a:r>
              <a:rPr b="0" lang="sr-Latn-CS" sz="2200" spc="-1" strike="noStrike">
                <a:solidFill>
                  <a:srgbClr val="c00000"/>
                </a:solidFill>
                <a:latin typeface="Arial"/>
                <a:ea typeface="Arial"/>
              </a:rPr>
              <a:t> компензација гена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Mery Lyon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(1961, 1963) - поставила </a:t>
            </a:r>
            <a:r>
              <a:rPr b="0" lang="sr-Latn-CS" sz="2200" spc="-1" strike="noStrike">
                <a:solidFill>
                  <a:srgbClr val="c00000"/>
                </a:solidFill>
                <a:latin typeface="Arial"/>
                <a:ea typeface="Arial"/>
              </a:rPr>
              <a:t>хипотезу о доз</a:t>
            </a:r>
            <a:r>
              <a:rPr b="0" lang="en-US" sz="2200" spc="-1" strike="noStrike">
                <a:solidFill>
                  <a:srgbClr val="c00000"/>
                </a:solidFill>
                <a:latin typeface="Arial"/>
                <a:ea typeface="Arial"/>
              </a:rPr>
              <a:t>ној</a:t>
            </a:r>
            <a:r>
              <a:rPr b="0" lang="sr-Latn-CS" sz="2200" spc="-1" strike="noStrike">
                <a:solidFill>
                  <a:srgbClr val="c00000"/>
                </a:solidFill>
                <a:latin typeface="Arial"/>
                <a:ea typeface="Arial"/>
              </a:rPr>
              <a:t> компензацији гена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Barr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Bertram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(1949) - Барово телo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Барово тело се јасно види и у интерфазним једрима телесних ћелија жен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тамније се боји базним бојама и најкасније се реплицира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4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АВИ ХЕРМАФРОДИТИЗАМ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i="1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Гонаде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i="1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оваријум + тестис  (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  <a:ea typeface="Arial"/>
              </a:rPr>
              <a:t>ово-тестис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i="1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Полни одводи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i="1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мешовити (материца ?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i="1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Спољашњи полни органи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i="1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амбивалентни (неодре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ђ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ени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одгајају се у </a:t>
            </a:r>
            <a:r>
              <a:rPr b="0" lang="sr-RS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мушком полу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i="1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хромозомска конституција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XX  (60%) ,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XX/XY 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-  резултат химеризма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XY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Diagram 3" descr=""/>
          <p:cNvPicPr/>
          <p:nvPr/>
        </p:nvPicPr>
        <p:blipFill>
          <a:blip r:embed="rId1"/>
          <a:stretch/>
        </p:blipFill>
        <p:spPr>
          <a:xfrm>
            <a:off x="-1003320" y="406440"/>
            <a:ext cx="10452240" cy="64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228600" y="1828800"/>
            <a:ext cx="5105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 46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, XY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i="1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Гонад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: тестиси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i="1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Плони одвод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: одсутни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i="1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Фенотип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: женски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 аменореја, стерилност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 нема Барово тело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c00000"/>
                </a:solidFill>
                <a:latin typeface="Arial"/>
                <a:ea typeface="Arial"/>
              </a:rPr>
              <a:t>Узрок: 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  <a:ea typeface="Arial"/>
              </a:rPr>
              <a:t>МУТАЦИЈА ГЕНА ЗА</a:t>
            </a:r>
            <a:r>
              <a:rPr b="1" lang="sr-RS" sz="22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  <a:ea typeface="Arial"/>
              </a:rPr>
              <a:t>РЕЦЕПТОР ЗА ТЕСТОСТЕРОН (Xq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0" name="Picture 6" descr="test-fem"/>
          <p:cNvPicPr/>
          <p:nvPr/>
        </p:nvPicPr>
        <p:blipFill>
          <a:blip r:embed="rId1"/>
          <a:stretch/>
        </p:blipFill>
        <p:spPr>
          <a:xfrm>
            <a:off x="5465880" y="1920960"/>
            <a:ext cx="2403360" cy="4433760"/>
          </a:xfrm>
          <a:prstGeom prst="rect">
            <a:avLst/>
          </a:prstGeom>
          <a:ln w="9360">
            <a:solidFill>
              <a:srgbClr val="dbf5f9"/>
            </a:solidFill>
            <a:miter/>
          </a:ln>
        </p:spPr>
      </p:pic>
      <p:sp>
        <p:nvSpPr>
          <p:cNvPr id="301" name="Text Box 7"/>
          <p:cNvSpPr/>
          <p:nvPr/>
        </p:nvSpPr>
        <p:spPr>
          <a:xfrm>
            <a:off x="304920" y="533520"/>
            <a:ext cx="883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МУШКИ ПСЕУДОХЕРМАФРОДИТИЗАМ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ТЕСТИКУЛАРНА ФЕМИНИЗАЦИЈА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4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ЖЕНСКИ ПСЕУДОХЕРМАФРОДИТИЗАМ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-360" y="1295280"/>
            <a:ext cx="8991720" cy="516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Arial"/>
                <a:ea typeface="Arial"/>
              </a:rPr>
              <a:t>КОНГЕНИТАЛНА АДРЕНАЛНА ХИПЕРПЛАЗИЈА</a:t>
            </a:r>
            <a:r>
              <a:rPr b="1" lang="sr-RS" sz="22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0" i="1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(адрено-генитални синдром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i="1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Хромозомска конституциј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 46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XX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i="1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Гонад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: оваријуми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i="1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Полни одвод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: женски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Фенотип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: недиференциран полни орган, маскулинизовано тело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Лучење мушких полних хормон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из увећане коре надбубрежне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 жлезде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c00000"/>
                </a:solidFill>
                <a:latin typeface="Arial"/>
                <a:ea typeface="Arial"/>
              </a:rPr>
              <a:t>Узрок: 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  <a:ea typeface="Arial"/>
              </a:rPr>
              <a:t>генска му</a:t>
            </a:r>
            <a:r>
              <a:rPr b="1" lang="sr-Latn-CS" sz="2200" spc="-1" strike="noStrike">
                <a:solidFill>
                  <a:srgbClr val="c00000"/>
                </a:solidFill>
                <a:latin typeface="Arial"/>
                <a:ea typeface="Arial"/>
              </a:rPr>
              <a:t>т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  <a:ea typeface="Arial"/>
              </a:rPr>
              <a:t>ација 21-OH или CYP21 на хром</a:t>
            </a:r>
            <a:r>
              <a:rPr b="1" lang="sr-RS" sz="2200" spc="-1" strike="noStrike">
                <a:solidFill>
                  <a:srgbClr val="c00000"/>
                </a:solidFill>
                <a:latin typeface="Arial"/>
                <a:ea typeface="Arial"/>
              </a:rPr>
              <a:t>озому број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  <a:ea typeface="Arial"/>
              </a:rPr>
              <a:t> 6 </a:t>
            </a:r>
            <a:r>
              <a:rPr b="1" lang="sr-CS" sz="2200" spc="-1" strike="noStrike">
                <a:solidFill>
                  <a:srgbClr val="c00000"/>
                </a:solidFill>
                <a:latin typeface="Arial"/>
                <a:ea typeface="Arial"/>
              </a:rPr>
              <a:t>                     </a:t>
            </a:r>
            <a:r>
              <a:rPr b="1" lang="sr-CS" sz="22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  <a:ea typeface="Arial"/>
              </a:rPr>
              <a:t>(недостатак ензима 21</a:t>
            </a:r>
            <a:r>
              <a:rPr b="1" lang="sr-Latn-CS" sz="2200" spc="-1" strike="noStrike">
                <a:solidFill>
                  <a:srgbClr val="c00000"/>
                </a:solidFill>
                <a:latin typeface="Arial"/>
                <a:ea typeface="Arial"/>
              </a:rPr>
              <a:t>-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  <a:ea typeface="Arial"/>
              </a:rPr>
              <a:t> х</a:t>
            </a:r>
            <a:r>
              <a:rPr b="1" lang="sr-CS" sz="2200" spc="-1" strike="noStrike">
                <a:solidFill>
                  <a:srgbClr val="c00000"/>
                </a:solidFill>
                <a:latin typeface="Arial"/>
                <a:ea typeface="Arial"/>
              </a:rPr>
              <a:t>и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  <a:ea typeface="Arial"/>
              </a:rPr>
              <a:t>дро</a:t>
            </a:r>
            <a:r>
              <a:rPr b="1" lang="sr-CS" sz="2200" spc="-1" strike="noStrike">
                <a:solidFill>
                  <a:srgbClr val="c00000"/>
                </a:solidFill>
                <a:latin typeface="Arial"/>
                <a:ea typeface="Arial"/>
              </a:rPr>
              <a:t>кси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  <a:ea typeface="Arial"/>
              </a:rPr>
              <a:t>ла</a:t>
            </a:r>
            <a:r>
              <a:rPr b="1" lang="sr-CS" sz="2200" spc="-1" strike="noStrike">
                <a:solidFill>
                  <a:srgbClr val="c00000"/>
                </a:solidFill>
                <a:latin typeface="Arial"/>
                <a:ea typeface="Arial"/>
              </a:rPr>
              <a:t>з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  <a:ea typeface="Arial"/>
              </a:rPr>
              <a:t>е)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5" descr="Image Preview"/>
          <p:cNvPicPr/>
          <p:nvPr/>
        </p:nvPicPr>
        <p:blipFill>
          <a:blip r:embed="rId1">
            <a:lum contrast="-2000"/>
          </a:blip>
          <a:stretch/>
        </p:blipFill>
        <p:spPr>
          <a:xfrm>
            <a:off x="1371600" y="1143000"/>
            <a:ext cx="5486400" cy="571500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5"/>
          <p:cNvSpPr/>
          <p:nvPr/>
        </p:nvSpPr>
        <p:spPr>
          <a:xfrm>
            <a:off x="0" y="38088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ЖЕНСКИ ПСЕУДОХЕРМАФРОДИТИЗА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228600" y="304560"/>
            <a:ext cx="86868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МИКРОСКОПСКИ ПРЕПАРАТИ ИНТЕРФАЗЕ ТЕЛЕСНИХ ЋЕЛИЈА ЉУДИ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Picture 5" descr="Barr_Bodies"/>
          <p:cNvPicPr/>
          <p:nvPr/>
        </p:nvPicPr>
        <p:blipFill>
          <a:blip r:embed="rId1"/>
          <a:stretch/>
        </p:blipFill>
        <p:spPr>
          <a:xfrm>
            <a:off x="0" y="2286000"/>
            <a:ext cx="919476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  <a:ea typeface="Arial"/>
              </a:rPr>
              <a:t>ЗАКЉУЧЦИ MARY LYON ХИПОТЕЗЕ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04920" y="1934640"/>
            <a:ext cx="86868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400" spc="-1" strike="noStrike">
                <a:solidFill>
                  <a:srgbClr val="00ffff"/>
                </a:solidFill>
                <a:latin typeface="Arial"/>
                <a:ea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У телесним ћелијама сисара увек је </a:t>
            </a:r>
            <a:r>
              <a:rPr b="0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активан само једа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X хромозо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еактивни X хромозом </a:t>
            </a:r>
            <a:r>
              <a:rPr b="0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потиче било од оца било од мајк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у различитим ћелијама истог организм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нактивација X хром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озом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настаје у раном</a:t>
            </a:r>
            <a:r>
              <a:rPr b="0" lang="sr-RS" sz="24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ембрионалном развићу (</a:t>
            </a:r>
            <a:r>
              <a:rPr b="0" lang="sr-RS" sz="2400" spc="-1" strike="noStrike">
                <a:solidFill>
                  <a:srgbClr val="c00000"/>
                </a:solidFill>
                <a:latin typeface="Arial"/>
                <a:ea typeface="Arial"/>
              </a:rPr>
              <a:t>између </a:t>
            </a:r>
            <a:r>
              <a:rPr b="0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15.</a:t>
            </a:r>
            <a:r>
              <a:rPr b="0" lang="sr-RS" sz="2400" spc="-1" strike="noStrike">
                <a:solidFill>
                  <a:srgbClr val="c00000"/>
                </a:solidFill>
                <a:latin typeface="Arial"/>
                <a:ea typeface="Arial"/>
              </a:rPr>
              <a:t> и 16. дана гестације)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 све ћелије које воде порекло од те ћелије имају исти активан или неактиван X хромозом.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686800" cy="65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ДРУГИ ЗАКЉУЧАК ХИПОТЕЗЕ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Picture 8" descr="The Chromosomal Basis of Inheritance - ppt download"/>
          <p:cNvPicPr/>
          <p:nvPr/>
        </p:nvPicPr>
        <p:blipFill>
          <a:blip r:embed="rId1"/>
          <a:srcRect l="23337" t="0" r="23337" b="0"/>
          <a:stretch/>
        </p:blipFill>
        <p:spPr>
          <a:xfrm>
            <a:off x="5130720" y="1762200"/>
            <a:ext cx="3832200" cy="4043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3" name="Object 9"/>
          <p:cNvGraphicFramePr/>
          <p:nvPr/>
        </p:nvGraphicFramePr>
        <p:xfrm>
          <a:off x="152280" y="960480"/>
          <a:ext cx="4797720" cy="571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4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960480"/>
                    <a:ext cx="479772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457200" y="28951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арнеров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синдро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- 45, XО (</a:t>
            </a:r>
            <a:r>
              <a:rPr b="1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нем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Барово тело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линефелтеров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синдро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– 47, XXY (има </a:t>
            </a:r>
            <a:r>
              <a:rPr b="1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једн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Барово тело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ер X синдром 47,XXX (има </a:t>
            </a:r>
            <a:r>
              <a:rPr b="1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два</a:t>
            </a:r>
            <a:r>
              <a:rPr b="1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Барова тела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ормална жена 46,X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има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једн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Барово тело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304920" y="23623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ИНДРОМИ КОЈИ ИДУ У ПРИЛОГ ХИПОТЕЗИ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533520" y="53352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н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ормална жен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46,X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има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једн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Барово тел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н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ормалан мушкарац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– 46, XY (</a:t>
            </a:r>
            <a:r>
              <a:rPr b="1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нем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Барово тело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000000"/>
                </a:solidFill>
                <a:latin typeface="Calibri"/>
              </a:rPr>
              <a:t>НЕДОСТАЦИ ХИПОТЕЗЕ: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20570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Уколико се инактивише цео X хром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озо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не треба да постоји разлика између нормалне жене и жене са Тарнеровим синдромом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Хетерозиготи за одређене гене смештене на Х хромозомима су функционални мозаици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Нпр. ензим глукозо-6-фосфат-дехидрогеназа (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G6PD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). Мушкарци са једним Х хромозомом имају само једну варијанту ензима, док жене због присуства два Х хромозома имају по две форме истог ензима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228240" y="2133360"/>
            <a:ext cx="8915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  <a:ea typeface="Arial"/>
              </a:rPr>
              <a:t>На инактивном X хромозому постоји активан регион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-360" y="762120"/>
            <a:ext cx="8991720" cy="88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ry Lyon 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је 1971. допунила хипотезу: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06:29:07Z</dcterms:created>
  <dc:creator>prodekan 01</dc:creator>
  <dc:description/>
  <dc:language>en-US</dc:language>
  <cp:lastModifiedBy>HP</cp:lastModifiedBy>
  <dcterms:modified xsi:type="dcterms:W3CDTF">2023-02-02T19:01:19Z</dcterms:modified>
  <cp:revision>250</cp:revision>
  <dc:subject/>
  <dc:title>V-   MEHANIZAM DETERMINACIJE POLA</dc:title>
</cp:coreProperties>
</file>